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A07-9EF8-4E0F-930B-71B39173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6C7-24BE-4D3C-BCED-28728048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613-C7F5-4531-B0E3-FFF0041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AC1-1828-481F-B2F3-8998B18B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FFE5-2591-44CD-A8C1-56710BAA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8EF-9628-4B0E-8F52-A305AD6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732C-3A57-46E6-87B7-73F4969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91DA-3DFB-47E0-80D0-B1CE218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3D0-9339-4E0E-926A-3077326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FA5-454D-49E9-B633-02C092E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773A-99A2-4758-9B82-8C5A7AA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321-64EA-4FF6-BCDA-154C590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F23B-A6DF-4AEB-8E83-DF5EECE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EA92-D693-422A-9E5E-F5694B3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FA3-C475-40C9-9882-28A21CA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C82-FB8D-4C65-9146-ED251CEF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5E8-873B-4A0F-AA4B-C1B4D022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D8C-C497-45D5-8F0F-218F860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58E-3360-4BD4-AC61-BD6FB42B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ABC-7E65-440B-A854-CD00CB14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126-41CC-482C-975C-162DEE38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310-BAC7-40AD-AF65-3E8EA2C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B2D-9700-4EC6-89A7-6190E0F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C38-54FF-486E-9B50-E1FE47F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61B-FDE9-498C-B7B1-84C313408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AFB-C742-42F4-AD16-EF78784AD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530280" y="225360"/>
            <a:ext cx="8211960" cy="14572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5924520" y="5784840"/>
            <a:ext cx="304344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380880" y="6172200"/>
            <a:ext cx="304920" cy="287280"/>
          </a:xfrm>
          <a:custGeom>
            <a:avLst/>
            <a:gdLst>
              <a:gd name="textAreaLeft" fmla="*/ 18360 w 304920"/>
              <a:gd name="textAreaRight" fmla="*/ 286560 w 304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3794"/>
                </a:moveTo>
                <a:lnTo>
                  <a:pt x="18469" y="10800"/>
                </a:lnTo>
                <a:lnTo>
                  <a:pt x="445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83808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1901880" y="268200"/>
            <a:ext cx="679140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09680" y="3200040"/>
            <a:ext cx="3276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rcRect l="2225" t="8775" r="4234" b="1757"/>
          <a:stretch/>
        </p:blipFill>
        <p:spPr>
          <a:xfrm>
            <a:off x="995400" y="1752480"/>
            <a:ext cx="727848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1785960" y="268200"/>
            <a:ext cx="7248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352680" y="2819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rcRect l="2303" t="13071" r="4324" b="5887"/>
          <a:stretch/>
        </p:blipFill>
        <p:spPr>
          <a:xfrm>
            <a:off x="838080" y="2057400"/>
            <a:ext cx="7566120" cy="419112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974960" y="268200"/>
            <a:ext cx="671832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95480" y="32004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562" t="8659" r="6408" b="4759"/>
          <a:stretch/>
        </p:blipFill>
        <p:spPr>
          <a:xfrm>
            <a:off x="1447920" y="1673280"/>
            <a:ext cx="6324480" cy="4454640"/>
          </a:xfrm>
          <a:prstGeom prst="rect">
            <a:avLst/>
          </a:prstGeom>
          <a:ln w="0">
            <a:noFill/>
          </a:ln>
        </p:spPr>
      </p:pic>
      <p:sp>
        <p:nvSpPr>
          <p:cNvPr id="13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1762200" y="268200"/>
            <a:ext cx="728964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580920" y="2971800"/>
            <a:ext cx="2133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rcRect l="2484" t="17074" r="4351" b="7321"/>
          <a:stretch/>
        </p:blipFill>
        <p:spPr>
          <a:xfrm>
            <a:off x="828720" y="1676520"/>
            <a:ext cx="7477200" cy="441936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1901880" y="268200"/>
            <a:ext cx="717552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276720" y="3429000"/>
            <a:ext cx="2666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rcRect l="1260" t="8448" r="1890" b="4224"/>
          <a:stretch/>
        </p:blipFill>
        <p:spPr>
          <a:xfrm>
            <a:off x="685800" y="1981080"/>
            <a:ext cx="7759800" cy="4267440"/>
          </a:xfrm>
          <a:prstGeom prst="rect">
            <a:avLst/>
          </a:prstGeom>
          <a:ln w="0">
            <a:noFill/>
          </a:ln>
        </p:spPr>
      </p:pic>
      <p:sp>
        <p:nvSpPr>
          <p:cNvPr id="14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1974960" y="268200"/>
            <a:ext cx="671832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742840" y="327672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rcRect l="2337" t="13413" r="2923" b="6141"/>
          <a:stretch/>
        </p:blipFill>
        <p:spPr>
          <a:xfrm>
            <a:off x="533520" y="1752480"/>
            <a:ext cx="8057880" cy="4267440"/>
          </a:xfrm>
          <a:prstGeom prst="rect">
            <a:avLst/>
          </a:prstGeom>
          <a:ln w="0">
            <a:noFill/>
          </a:ln>
        </p:spPr>
      </p:pic>
      <p:sp>
        <p:nvSpPr>
          <p:cNvPr id="15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1773360" y="268200"/>
            <a:ext cx="718812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1460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rcRect l="1151" t="15997" r="4600" b="8576"/>
          <a:stretch/>
        </p:blipFill>
        <p:spPr>
          <a:xfrm>
            <a:off x="609480" y="1981080"/>
            <a:ext cx="7952040" cy="4419720"/>
          </a:xfrm>
          <a:prstGeom prst="rect">
            <a:avLst/>
          </a:prstGeom>
          <a:ln w="0">
            <a:noFill/>
          </a:ln>
        </p:spPr>
      </p:pic>
      <p:sp>
        <p:nvSpPr>
          <p:cNvPr id="15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2" descr=""/>
          <p:cNvPicPr/>
          <p:nvPr/>
        </p:nvPicPr>
        <p:blipFill>
          <a:blip r:embed="rId1"/>
          <a:stretch/>
        </p:blipFill>
        <p:spPr>
          <a:xfrm>
            <a:off x="1974960" y="268200"/>
            <a:ext cx="694980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n-aktobe.kz/files/images/%20%D0%BA%D0%BE%D0%BD%D1%81%D1%82%D0%B8%D1%82%D1%83%D1%86%D0%B8%D0%B8.g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umi.ru/fullview.php?id=21837&amp;op=th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в начало 4">
            <a:hlinkClick r:id="" action="ppaction://hlinkshowjump?jump=firstslide"/>
          </p:cNvPr>
          <p:cNvSpPr/>
          <p:nvPr/>
        </p:nvSpPr>
        <p:spPr>
          <a:xfrm>
            <a:off x="9144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968480" y="268200"/>
            <a:ext cx="67309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429000" y="2819520"/>
            <a:ext cx="2209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rcRect l="1330" t="18226" r="6824" b="12908"/>
          <a:stretch/>
        </p:blipFill>
        <p:spPr>
          <a:xfrm>
            <a:off x="914400" y="2397240"/>
            <a:ext cx="7507440" cy="369864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938240" y="268200"/>
            <a:ext cx="67914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276720" y="2590560"/>
            <a:ext cx="18288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10423" t="5855" r="7492" b="8290"/>
          <a:stretch/>
        </p:blipFill>
        <p:spPr>
          <a:xfrm>
            <a:off x="1371600" y="1676520"/>
            <a:ext cx="6705720" cy="468288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920960" y="268200"/>
            <a:ext cx="697392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181120" y="3809520"/>
            <a:ext cx="1600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rcRect l="3602" t="18100" r="3903" b="7695"/>
          <a:stretch/>
        </p:blipFill>
        <p:spPr>
          <a:xfrm>
            <a:off x="817560" y="2057400"/>
            <a:ext cx="7412040" cy="394668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1962000" y="268200"/>
            <a:ext cx="68169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85840" y="3962160"/>
            <a:ext cx="1600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rcRect l="5868" t="18181" r="3812" b="3636"/>
          <a:stretch/>
        </p:blipFill>
        <p:spPr>
          <a:xfrm>
            <a:off x="793800" y="1981080"/>
            <a:ext cx="750564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901880" y="268200"/>
            <a:ext cx="717552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733560" y="3657600"/>
            <a:ext cx="1904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rcRect l="2205" t="16781" r="6112" b="4301"/>
          <a:stretch/>
        </p:blipFill>
        <p:spPr>
          <a:xfrm>
            <a:off x="685800" y="17524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7280"/>
          </a:xfrm>
          <a:custGeom>
            <a:avLst/>
            <a:gdLst>
              <a:gd name="textAreaLeft" fmla="*/ 18360 w 304920"/>
              <a:gd name="textAreaRight" fmla="*/ 286560 w 304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10800"/>
                </a:moveTo>
                <a:lnTo>
                  <a:pt x="18469" y="3794"/>
                </a:lnTo>
                <a:lnTo>
                  <a:pt x="184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1974960" y="268200"/>
            <a:ext cx="671832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362320" y="3276720"/>
            <a:ext cx="26668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rcRect l="1185" t="15724" r="1777" b="3929"/>
          <a:stretch/>
        </p:blipFill>
        <p:spPr>
          <a:xfrm>
            <a:off x="1143000" y="2057400"/>
            <a:ext cx="7062840" cy="396252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10800"/>
                </a:moveTo>
                <a:lnTo>
                  <a:pt x="18718" y="3794"/>
                </a:lnTo>
                <a:lnTo>
                  <a:pt x="1871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938240" y="268200"/>
            <a:ext cx="678492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200040" y="327672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rcRect l="2415" t="22566" r="4534" b="0"/>
          <a:stretch/>
        </p:blipFill>
        <p:spPr>
          <a:xfrm>
            <a:off x="914400" y="2133720"/>
            <a:ext cx="742140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7280"/>
          </a:xfrm>
          <a:custGeom>
            <a:avLst/>
            <a:gdLst>
              <a:gd name="textAreaLeft" fmla="*/ 18360 w 304920"/>
              <a:gd name="textAreaRight" fmla="*/ 286560 w 304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10800"/>
                </a:moveTo>
                <a:lnTo>
                  <a:pt x="18469" y="3794"/>
                </a:lnTo>
                <a:lnTo>
                  <a:pt x="184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974960" y="268200"/>
            <a:ext cx="671832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666880" y="3809520"/>
            <a:ext cx="2819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rcRect l="1118" t="11271" r="2845" b="4224"/>
          <a:stretch/>
        </p:blipFill>
        <p:spPr>
          <a:xfrm>
            <a:off x="990720" y="1847880"/>
            <a:ext cx="739116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0880" y="6172200"/>
            <a:ext cx="304920" cy="287280"/>
          </a:xfrm>
          <a:custGeom>
            <a:avLst/>
            <a:gdLst>
              <a:gd name="textAreaLeft" fmla="*/ 18360 w 304920"/>
              <a:gd name="textAreaRight" fmla="*/ 286560 w 304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10800"/>
                </a:moveTo>
                <a:lnTo>
                  <a:pt x="18469" y="3794"/>
                </a:lnTo>
                <a:lnTo>
                  <a:pt x="184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080" y="617220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3794"/>
                </a:moveTo>
                <a:lnTo>
                  <a:pt x="18718" y="10800"/>
                </a:lnTo>
                <a:lnTo>
                  <a:pt x="47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7-27T13:44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